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726-AE8B-4038-9C3A-EC2067E3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C9F0-760F-4100-92E5-FDE973F4F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24F-7E41-49C8-9D46-8906A2D1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B2B-6EA2-44EF-8ABE-EDDEA972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4AF-2CAB-452B-BA11-DCC333E9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2B7-0504-4617-83EC-FCD1533A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75A-C2FF-4030-A5B4-DF5E6349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459-0526-4683-BB06-77086390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8F7-23B1-47D3-83E7-303C30F1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0D2-2C26-4EDC-AA1D-86242EF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779-244D-4C90-B12B-80833C3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F09-C340-41F6-98C1-C82795C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D5E-B99C-4A30-9A77-6942747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FE1-F44E-4DD5-8AF3-DA3AFCE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02B7-225B-4CA1-89CB-921CE0E2D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3284280"/>
            <a:ext cx="7848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ЦЕНТРИФУГИРАЊЕ БИОЛОШКОГ МАТЕРИЈ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ОДВАЈАЊЕ ЕРИТРОЦИТА ОД ПЛАЗ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ЛИЗИРАЊЕ ЕРИТРОЦ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784960" y="5229360"/>
            <a:ext cx="351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Катедра изборног подруч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971640" y="249228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ИП5: Експериментална и примењена физиологија са спортском медици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7.</a:t>
            </a:r>
            <a:r>
              <a:rPr b="1" i="1" lang="sr-RS" sz="1600" spc="-1" strike="noStrike" u="sng">
                <a:solidFill>
                  <a:srgbClr val="000000"/>
                </a:solidFill>
                <a:uFillTx/>
                <a:latin typeface="Calibri"/>
              </a:rPr>
              <a:t> недеља наста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трацентрифуга/нормална центриф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нормал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центрифуге - одвајање чврсте фазе из сусп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ултрацентрифуг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- одвајање дисперзне фазе од дисперзионог средства емул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рзина одвајања честица зависи од масе честица, густине и вискозности средине и брзине центрифугир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281240" y="2852640"/>
            <a:ext cx="67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Одвајање еритроцита од пла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ступак одв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560" y="1916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рв центрифугирати 10 мин на 3000 r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двојиће се пла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l добијене плазме сипати у епендорфице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обележити 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татак плазме аспирирати како би остали само еритро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195640" y="2997360"/>
            <a:ext cx="47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Лизирање еритро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ступак одв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ставља се након поступка одвајања еритроцита од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што су у епрувети остали само еритроцити, додати физиолошки раствор у епрув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однос 1:3 – 1/3 е:2/3 ф.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   Промешати на апарату за мешање Vortе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   Потом центрифугирати 10 мин на 3000 r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кон сваког центрифугирања аспирирати суперна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Поступак 1-4 поновити 3 пу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ступак одвај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кон 3. центрифугирања и аспирације супернатанта, испипетирати 1 ml еритроцита, сипати у нов епрувету и додати 3 ml хладне дестиловане в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ако лизиране еритроците држати 30 минута на ле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прувете окретати на сваких 5 минута како би сваки део узорка дошао у адекватан контакт са лед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том узорак еритроцита поделити у 3 порције (по 1 ml у свакој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вакви узорци су погодни за одређивање активности ензима антиоксидационе заштите који се налазе у ериторцит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699640" y="2781360"/>
            <a:ext cx="39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ЦЕНТРИФУГИР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И ПОЈМ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Helvetica Neue"/>
              </a:rPr>
              <a:t>Центифугирање је технолошки поступак којим се, под утицајем центрифугалне силе, у виду талога одваја чврста фаза из суспензија, односно дисперзна фаза из емулз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Helvetica Neue"/>
              </a:rPr>
              <a:t>Дисперговане честице мале масе које се не таложе спонтано, под дејством гравитационе силе, могу се таложити ако на њих делује сила која је јача од гравитацио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ОВИ ЦЕНТРИФ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Свака центифуга се састоји 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- електромотор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- ротора са носач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У носач се стављају епендорфи, епруветe ис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Електромотор покреће ро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Calibri"/>
              </a:rPr>
              <a:t>Обртање ротора ствара центрифугално по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ИПОВИ РО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6999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499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Ротори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      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са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фиксним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углом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угао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осе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епрувете и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осе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ротације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37373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ста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Calibri"/>
              </a:rPr>
              <a:t>     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Честице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се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таложе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на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зиду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епрувете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а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не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на</a:t>
            </a:r>
            <a:r>
              <a:rPr b="0" lang="vi-VN" sz="2000" spc="-1" strike="noStrike" u="sng">
                <a:solidFill>
                  <a:srgbClr val="373737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373737"/>
                </a:solidFill>
                <a:uFillTx/>
                <a:latin typeface="Calibri"/>
              </a:rPr>
              <a:t>д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а променљивим положајем епрувета (“swing-out” ротори) – Лежишта за епрувете су везана за ротор преко осов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да ротор убрзава, под дејством центрифугалне силе, епрувете заузимају хоризонталан положа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да ротор успорава, епрувете се враћају у вертикалан положа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мер центрифугалне силе је увек ка дну епрувете, где се честице и тало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ng-out” ро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entrifugation_1"/>
          <p:cNvPicPr/>
          <p:nvPr/>
        </p:nvPicPr>
        <p:blipFill>
          <a:blip r:embed="rId2"/>
          <a:stretch/>
        </p:blipFill>
        <p:spPr>
          <a:xfrm>
            <a:off x="250920" y="1484280"/>
            <a:ext cx="8569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глед савремених центриф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Ð¡ÑÐ¾Ð´Ð½Ð° ÑÐ»Ð¸ÐºÐ°"/>
          <p:cNvPicPr/>
          <p:nvPr/>
        </p:nvPicPr>
        <p:blipFill>
          <a:blip r:embed="rId2"/>
          <a:stretch/>
        </p:blipFill>
        <p:spPr>
          <a:xfrm>
            <a:off x="755640" y="2349360"/>
            <a:ext cx="3965760" cy="3722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Ð¡ÑÐ¾Ð´Ð½Ð° ÑÐ»Ð¸ÐºÐ°"/>
          <p:cNvPicPr/>
          <p:nvPr/>
        </p:nvPicPr>
        <p:blipFill>
          <a:blip r:embed="rId3"/>
          <a:stretch/>
        </p:blipFill>
        <p:spPr>
          <a:xfrm>
            <a:off x="4211640" y="2060640"/>
            <a:ext cx="39607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ИПОВИ ЦЕНТРИФ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ипови центрифуга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ма броју обрт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Стандардне испод 10 000 rpm (ротација по минути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Велике брзине 10 000-25 000 rp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Ултрабрзе 40 000-80 000 rpm (преко 20 000 rp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ипови центрифуга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ма намени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Лабораторијске центрифуг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Микроцентрифуг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Центрифуге великог капацитет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Ултрацентрифуг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Проточне центрифу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РИШЋЕЊЕ ЦЕНТРИФ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мешта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от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центрифуг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вери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епрувета су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ото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чис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равнотежи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иве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тавља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јед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спр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руг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дентич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епрувете 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једнак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личи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збегавај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епун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ото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фиксн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гл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јств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центрифуга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ди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епруветама п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сцуре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Затворити по потреби епрув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korscenj"/>
          <p:cNvPicPr/>
          <p:nvPr/>
        </p:nvPicPr>
        <p:blipFill>
          <a:blip r:embed="rId1"/>
          <a:stretch/>
        </p:blipFill>
        <p:spPr>
          <a:xfrm>
            <a:off x="3059280" y="4076640"/>
            <a:ext cx="34034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Vladimir Zivkovic</cp:lastModifiedBy>
  <dcterms:modified xsi:type="dcterms:W3CDTF">2020-04-01T21:06:22Z</dcterms:modified>
  <cp:revision>188</cp:revision>
  <dc:subject/>
  <dc:title>Slide 1</dc:title>
</cp:coreProperties>
</file>